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3033-ABDA-4FE8-9774-42785FE577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73D7-CCF5-4335-9FC2-AE095AE198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176B-85A2-4F57-9739-78CD0F2DAE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6608-F4EE-45F3-A739-75AC03613E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4F00-4ED8-4AA0-BE92-6950CB3938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8EC6-255C-4595-8BEA-47538A2AA3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CB33-1A92-40FD-968A-ED12015D5C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FEAF-BBDD-4439-906B-CD2E806455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E59B-0ED0-406C-A76E-9E69A65ED8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4B1B-848D-43C1-91A1-C17ABD6349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0B19-048F-47AD-979D-6FE1C02F41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7127-03F7-4C10-993B-C1812520C6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66DC-6F66-41AB-8D93-87070A7F4D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05CC-8091-48A1-A5D2-45B7AFA5CD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DDC3-3D55-44FD-84E6-06880FB33E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A26F-0CAF-43F0-9802-20DEDF2E98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55E-4E77-4C76-B5B2-7B380C49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CFF-35EB-4582-B054-ECC6EA82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426-53FD-414A-B0C7-9C98DE72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805-CC2C-489A-8FDA-29FB2388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D7F-62C6-4314-AB39-E61AC948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D98-0F46-42D4-ADF2-E9A435B9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530-B375-4129-8A7C-95E4B44B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E96-3416-4022-999F-51F70849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33A-1A6F-4F8C-9792-DC1EC035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F1F-01C9-4E86-9EB3-E72B6F3D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7BA-9EE4-429F-97FD-A472D2B5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924-2E30-47F9-9648-3AA13150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A1A7-AFB0-4666-94F3-819EDF16111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792972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2060"/>
                </a:solidFill>
                <a:latin typeface="Calibri"/>
              </a:rPr>
              <a:t>ESTADISTICA APLICADA A LAS COMUNICACIONES:</a:t>
            </a:r>
            <a:br>
              <a:rPr sz="4200"/>
            </a:br>
            <a:br>
              <a:rPr sz="4200"/>
            </a:b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CONCEPTOS EN LA INVESTIGACION POR MUESTRE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7 Rectángulo"/>
          <p:cNvSpPr/>
          <p:nvPr/>
        </p:nvSpPr>
        <p:spPr>
          <a:xfrm>
            <a:off x="357120" y="357120"/>
            <a:ext cx="8501040" cy="61437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CuadroTexto"/>
          <p:cNvSpPr/>
          <p:nvPr/>
        </p:nvSpPr>
        <p:spPr>
          <a:xfrm>
            <a:off x="2857680" y="4332240"/>
            <a:ext cx="45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Trebuchet MS"/>
              </a:rPr>
              <a:t>Docente 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: 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Fernando Cam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9 CuadroTexto"/>
          <p:cNvSpPr/>
          <p:nvPr/>
        </p:nvSpPr>
        <p:spPr>
          <a:xfrm>
            <a:off x="6516720" y="6000840"/>
            <a:ext cx="24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Trebuchet MS"/>
              </a:rPr>
              <a:t>Lima, 26 de Octu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0 CuadroTexto"/>
          <p:cNvSpPr/>
          <p:nvPr/>
        </p:nvSpPr>
        <p:spPr>
          <a:xfrm>
            <a:off x="491040" y="5857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SION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42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es-ES_tradnl" sz="3200" spc="-1" strike="noStrike">
                <a:solidFill>
                  <a:srgbClr val="17375e"/>
                </a:solidFill>
                <a:latin typeface="Calibri"/>
              </a:rPr>
              <a:t>Establecimiento del Marco: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Con el fin de cubrir con la encuesta la población objetivo, debe haber alguna lista, mapa o algún otro material aceptable (Marco) que sirva como guía al universo que se cubrir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4240" y="801360"/>
            <a:ext cx="7715520" cy="47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V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Diseño muestral: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Para los propósitos de la selección de la muestra debe ser posible dividir la población en unidades de muestreo de forma no ambigua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Todo elemento de la población debe pertenecer a una sola unidad de muestr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715520" cy="600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V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Diseño muestral: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Podríamos citar parte del diseño muestral los siguientes: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Especificación de las unidades de muestreo; Análisis y determinación del tamaño muestral; Método de selección de la muestra; formulas para los estimadores a utilizar; Formulas para la estimación de los errores muestrales; Control de otros errores ajenos al muestr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807840"/>
            <a:ext cx="7715520" cy="59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Trabajo de Campo: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Se consideran trabajo de campo aquellos que consisten en la obtención de las medidas de las variables objeto de estudio , asociadas a las unidades de la población sobre las que se realiza la medición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Los elementos del trabajo de campo son: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Las unidades a medir; Las variables objeto de medida, Instrumento de med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15520" cy="30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 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Encuesta Piloto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Permite probar  en campo el cuestionario  y otros métodos de medición, calificar a los encuestadores y verificar el manejo de las operaciones generales de camp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4240" y="791640"/>
            <a:ext cx="7715520" cy="65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Procesamiento de los datos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Dicho procesamiento ha de realizarse de modo automatizado utilizando en la mayor medida posible las prestaciones que ofrecen las nuevas tecnologías de información y comunicación: Entre las tareas que abarca son: Proceso y depuración de cuestionarios; Tabulación de los datos; Análisis de resultados  implementadas con software estadísticos existen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42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I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Evaluación de Resultados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Después de Obtener los primeros  datos relativos a una encuesta, es necesario proceder a su evaluación con la finalidad de contrastar la calidad de la encuesta antes de proceder a la presentación y difusión de result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155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X.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Presentación de resultados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Es muy necesaria una presentación ordenada y lo suficientemente documentada de los resultados que permita conocer la calidad de los mismos y medir la confianza a depositar en las estimaciones resultante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48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X.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Difusión de resultados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Es necesario trazar un plan de difusión de los resultados de la misma que divulgue lo suficiente la información obtenida: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Difusión en soporte papel; Difusión en soporte magnético CD.ROM; Vía internet;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2093400"/>
            <a:ext cx="7715520" cy="18925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002060"/>
                </a:solidFill>
                <a:latin typeface="Calibri"/>
              </a:rPr>
              <a:t>5. Construcción del Marco Muestral.</a:t>
            </a:r>
            <a:br>
              <a:rPr sz="3900"/>
            </a:br>
            <a:br>
              <a:rPr sz="3900"/>
            </a:br>
            <a:r>
              <a:rPr b="1" lang="es-ES" sz="3900" spc="-1" strike="noStrike">
                <a:solidFill>
                  <a:srgbClr val="002060"/>
                </a:solidFill>
                <a:latin typeface="Calibri"/>
              </a:rPr>
              <a:t>En la sala de TV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5712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I. </a:t>
            </a: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Conceptos en la Investigación por muestr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15520" cy="612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2060"/>
                </a:solidFill>
                <a:latin typeface="Calibri"/>
              </a:rPr>
              <a:t>I. </a:t>
            </a:r>
            <a:r>
              <a:rPr b="1" lang="es-ES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" sz="4000" spc="-1" strike="noStrike">
                <a:solidFill>
                  <a:srgbClr val="002060"/>
                </a:solidFill>
                <a:latin typeface="Calibri"/>
              </a:rPr>
              <a:t>Conceptos en la Investigación por muestreo</a:t>
            </a:r>
            <a:br>
              <a:rPr sz="4000"/>
            </a:b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1. Concepto de muestreo</a:t>
            </a:r>
            <a:br>
              <a:rPr sz="3900"/>
            </a:b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2. El concepto de Encuesta Estadística.</a:t>
            </a:r>
            <a:br>
              <a:rPr sz="3900"/>
            </a:b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3. Población, marco y muestra.</a:t>
            </a:r>
            <a:br>
              <a:rPr sz="3900"/>
            </a:b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4. las distintas fases de la investigación por muestreo</a:t>
            </a:r>
            <a:br>
              <a:rPr sz="3900"/>
            </a:b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5. Construcción del Marco Muestral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714240" y="14292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Sesión 01: </a:t>
            </a: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15520" cy="46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1. </a:t>
            </a:r>
            <a:r>
              <a:rPr b="1" lang="es-ES" sz="3900" spc="-1" strike="noStrike">
                <a:solidFill>
                  <a:srgbClr val="002060"/>
                </a:solidFill>
                <a:latin typeface="Calibri"/>
              </a:rPr>
              <a:t>Concepto de muestreo</a:t>
            </a:r>
            <a:br>
              <a:rPr sz="3900"/>
            </a:b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De forma metafórica podríamos  decir que una muestra, que se supone representativa de una población, es similar  a lo que representa una maqueta respecto del edificio del que ofrece una imagen. La muestra al igual que la maqueta, será mejor o peor, según el grado de representatividad que ofrez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712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I. </a:t>
            </a: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Conceptos en la Investigación por muestr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15520" cy="36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1" lang="es-ES" sz="3900" spc="-1" strike="noStrike">
                <a:solidFill>
                  <a:srgbClr val="002060"/>
                </a:solidFill>
                <a:latin typeface="Calibri"/>
              </a:rPr>
              <a:t>Concepto de Encuesta Estadística</a:t>
            </a:r>
            <a:br>
              <a:rPr sz="3900"/>
            </a:b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Es una investigación cuyo objetivo es la recolección de datos. Se tomarán observaciones y mediciones de una muestra de elementos de una población determinada para poder hacer inferencias sobre un grupo de eleme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5712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I. </a:t>
            </a: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Conceptos en la Investigación por muestr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532908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3. Población, Muestra y Mar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2520" y="768240"/>
            <a:ext cx="8229600" cy="262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2600" indent="-282600" algn="just">
              <a:lnSpc>
                <a:spcPct val="125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Población:</a:t>
            </a:r>
            <a:r>
              <a:rPr b="0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 es el conjunto de todos los elementos que poseen una determinada característica. En general supondremos que la población es muy gran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25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Muestra</a:t>
            </a:r>
            <a:r>
              <a:rPr b="0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: es un subconjunto de la pob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25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Mue</a:t>
            </a: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s</a:t>
            </a:r>
            <a:r>
              <a:rPr b="1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treo</a:t>
            </a:r>
            <a:r>
              <a:rPr b="0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: es el proceso mediante el cual se escoge una muestra de la pob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Inferencia estadística</a:t>
            </a:r>
            <a:r>
              <a:rPr b="0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: </a:t>
            </a:r>
            <a:r>
              <a:rPr b="0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proceso a través del cual se obtienen conclusiones sobre una población, a través de la información que proporciona una muestra. La confianza de tal extrapolación dependerá de la </a:t>
            </a: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representatividad de la muestra</a:t>
            </a:r>
            <a:r>
              <a:rPr b="0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·  Marco: </a:t>
            </a:r>
            <a:r>
              <a:rPr b="0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Relación de unidades de muestreo, de la que selecciona la muestra o marco en sentido restring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v4"/>
          <p:cNvPicPr/>
          <p:nvPr/>
        </p:nvPicPr>
        <p:blipFill>
          <a:blip r:embed="rId1"/>
          <a:stretch/>
        </p:blipFill>
        <p:spPr>
          <a:xfrm>
            <a:off x="415800" y="3500280"/>
            <a:ext cx="3156120" cy="2976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719520" y="3730680"/>
            <a:ext cx="5022720" cy="283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0" indent="-14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La representatividad  de la muestra depende de dos cos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8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a) Del mecanismo de selección</a:t>
            </a:r>
            <a:r>
              <a:rPr b="0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: que ha de garantizar que no hay un elemento de la población con más probabilidad que otro de entrar en la muestra. Si no, sería una </a:t>
            </a: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muestra sesg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8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8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b) Del tamaño de la muestra</a:t>
            </a:r>
            <a:r>
              <a:rPr b="0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: si el mecanismo de selección es correcto, cuanto más grande sea la muestra mayor será la probabilidad de que se parezca a la población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298080" y="500040"/>
            <a:ext cx="41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7375e"/>
                </a:solidFill>
                <a:latin typeface="Cambria"/>
              </a:rPr>
              <a:t>¿Que es una Muest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937080" y="350028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7375e"/>
                </a:solidFill>
                <a:latin typeface="Calibri"/>
              </a:rPr>
              <a:t>SELE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7375e"/>
                </a:solidFill>
                <a:latin typeface="Calibri"/>
              </a:rPr>
              <a:t>PROBABIL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7375e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7375e"/>
                </a:solidFill>
                <a:latin typeface="Calibri"/>
              </a:rPr>
              <a:t>NO PROBABIL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09600" y="1055520"/>
            <a:ext cx="862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7375e"/>
                </a:solidFill>
                <a:latin typeface="Calibri"/>
              </a:rPr>
              <a:t>PORCIÓN DE UNA POBLACIÓN (Población Objetivo) QUE ES SELECCIONADA PARA REPRESENT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95360" y="2421000"/>
            <a:ext cx="1629000" cy="96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0" descr=""/>
          <p:cNvPicPr/>
          <p:nvPr/>
        </p:nvPicPr>
        <p:blipFill>
          <a:blip r:embed="rId2"/>
          <a:stretch/>
        </p:blipFill>
        <p:spPr>
          <a:xfrm>
            <a:off x="2665440" y="4319640"/>
            <a:ext cx="4067280" cy="1790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omp_particle_only_short"/>
          <p:cNvPicPr/>
          <p:nvPr/>
        </p:nvPicPr>
        <p:blipFill>
          <a:blip r:embed="rId3"/>
          <a:stretch/>
        </p:blipFill>
        <p:spPr>
          <a:xfrm>
            <a:off x="3017880" y="2644920"/>
            <a:ext cx="4626000" cy="2498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4456080" y="2781360"/>
            <a:ext cx="1628640" cy="961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6588000" y="3141720"/>
            <a:ext cx="1629000" cy="961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8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385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41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En un sentido amplio la finalidad de una encuesta por muestreo es obtener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nformación 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para satisfacer una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necesidad definida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A la hora de llevar a cabo una encuesta por muestreo es necesario tener en cuenta determinadas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 fases 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para su correcta planificación y ejecu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807840"/>
            <a:ext cx="7715520" cy="59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OBJETIVOS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: 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La primera tarea de toda encuesta por muestreo es fijar en términos concretos los objetivos de la misma. Además tener presentes determinados factores como: 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¿Qué información se necesita?, ¿Cuál es el motivo?, ¿Existe información disponible, ¿Existe información auxiliar ?, ¿medios y materiales que se dispone?, Presupuesto.</a:t>
            </a:r>
            <a:r>
              <a:rPr b="0" lang="es-ES_tradnl" sz="2400" spc="-1" strike="noStrike">
                <a:solidFill>
                  <a:srgbClr val="002060"/>
                </a:solidFill>
                <a:latin typeface="Calibri"/>
              </a:rPr>
              <a:t>etc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0"/>
          <p:cNvGrpSpPr/>
          <p:nvPr/>
        </p:nvGrpSpPr>
        <p:grpSpPr>
          <a:xfrm>
            <a:off x="536760" y="1695600"/>
            <a:ext cx="6537240" cy="3821040"/>
            <a:chOff x="536760" y="1695600"/>
            <a:chExt cx="6537240" cy="3821040"/>
          </a:xfrm>
        </p:grpSpPr>
        <p:sp>
          <p:nvSpPr>
            <p:cNvPr id="76" name="Rectangle 3"/>
            <p:cNvSpPr/>
            <p:nvPr/>
          </p:nvSpPr>
          <p:spPr>
            <a:xfrm>
              <a:off x="592200" y="2060640"/>
              <a:ext cx="6481800" cy="3456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5"/>
            <p:cNvSpPr/>
            <p:nvPr/>
          </p:nvSpPr>
          <p:spPr>
            <a:xfrm>
              <a:off x="536760" y="1695600"/>
              <a:ext cx="247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BLACION 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AutoShape 4"/>
          <p:cNvSpPr/>
          <p:nvPr/>
        </p:nvSpPr>
        <p:spPr>
          <a:xfrm>
            <a:off x="1714680" y="2349360"/>
            <a:ext cx="6941880" cy="28670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7164360" y="1484280"/>
            <a:ext cx="176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BLACION DEL MARCO DE MUEST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36400" y="811080"/>
            <a:ext cx="846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7375e"/>
                </a:solidFill>
                <a:latin typeface="Cambria"/>
              </a:rPr>
              <a:t>II. DELIMITACIÓN DE LA POBLACION OBJETIVO Y MUESTRE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663480" y="3071880"/>
            <a:ext cx="112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incluidas en el marco de muest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181320" y="2349360"/>
            <a:ext cx="3892680" cy="287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BLACION MUESTR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713240" y="266076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localiz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714680" y="3286080"/>
            <a:ext cx="131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quieren resp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785960" y="4437000"/>
            <a:ext cx="146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pueden resp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7072200" y="3357720"/>
            <a:ext cx="160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es elegible para la encu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2"/>
          <p:cNvGrpSpPr/>
          <p:nvPr/>
        </p:nvGrpSpPr>
        <p:grpSpPr>
          <a:xfrm>
            <a:off x="1747800" y="3284640"/>
            <a:ext cx="1395360" cy="936360"/>
            <a:chOff x="1747800" y="3284640"/>
            <a:chExt cx="1395360" cy="936360"/>
          </a:xfrm>
        </p:grpSpPr>
        <p:sp>
          <p:nvSpPr>
            <p:cNvPr id="88" name="Line 9"/>
            <p:cNvSpPr/>
            <p:nvPr/>
          </p:nvSpPr>
          <p:spPr>
            <a:xfrm>
              <a:off x="1747800" y="3284640"/>
              <a:ext cx="13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6"/>
            <p:cNvSpPr/>
            <p:nvPr/>
          </p:nvSpPr>
          <p:spPr>
            <a:xfrm>
              <a:off x="1747800" y="4221000"/>
              <a:ext cx="13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5"/>
          <p:cNvSpPr/>
          <p:nvPr/>
        </p:nvSpPr>
        <p:spPr>
          <a:xfrm>
            <a:off x="214200" y="21096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rnando Camones</cp:lastModifiedBy>
  <dcterms:modified xsi:type="dcterms:W3CDTF">2010-10-27T02:29:32Z</dcterms:modified>
  <cp:revision>358</cp:revision>
  <dc:subject/>
  <dc:title>¿LAS GRANDES CIUDADES  SON ESPACIOS URBANOS HOMOGENEOS?</dc:title>
</cp:coreProperties>
</file>